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73D-1600-4516-A9EA-9E360125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557-5967-4CF8-A47C-8AFC1E2B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F481-B911-4E9E-BC49-6FC116BB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42C8-505D-4DCC-A216-FEA56995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8EC-F4FC-47E1-8EE8-8D3AC2A9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485B-F188-4579-B099-41CB1E9B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9C1-02C5-46C5-8280-A947E7AD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7BF-693B-430E-96FB-D1D7BDE0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ABA-AD4B-49AA-9D7F-68ED8D68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FDA-4D71-4F96-9778-47DA5BA4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4089-F07B-4F1D-8985-9906C50B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672-AAC0-45A6-AA70-4B3D5F06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3185-C3FF-4FA6-83A4-12CA9E7CC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tarcasm.net/wp-content/uploads/2011/06/Big_Brother_13_house_photo_008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8"/>
          <p:cNvSpPr/>
          <p:nvPr/>
        </p:nvSpPr>
        <p:spPr>
          <a:xfrm>
            <a:off x="63360" y="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HawaiiBI-WaikoloaFairway-17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-780120" y="46080"/>
            <a:ext cx="101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Bradley Hand ITC"/>
              </a:rPr>
              <a:t>Mi casa esta localizada en hawaii. En Estados Unidos de Amer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Bradley Hand ITC"/>
              </a:rPr>
              <a:t>El precio de cinco Millonese de pesos.La casa es muy muy gran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Bradley Hand ITC"/>
              </a:rPr>
              <a:t>Teine un dos piscina,y grande yarde , y terraza, y caurto de s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arge-master-bedroom-designs-2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-5040" y="0"/>
            <a:ext cx="884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ormitorio principal teine un television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, cama , y ventana.Yo Guesta a ver television y dormir 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 dormitor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haggadelic blue Head of Household bedroom from Big Brother Season 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-6840" y="609480"/>
            <a:ext cx="842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ormitorio es muy grande. Teine domir, y silla , mes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 guesta a relajarse en el dormitor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6a00e554fd440d8834011168609ac8970c-500p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38120" y="316080"/>
            <a:ext cx="73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ocina es grande. Tiene lujoso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iene la nevera. Es negro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mazing-living-rooms-with-view-Freshome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517680" y="189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68520" y="341280"/>
            <a:ext cx="80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sala de estar es muy grande y temible. Que tiene un sofa y una silla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Large-Dining-Rooms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363240" y="341280"/>
            <a:ext cx="54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comedor es grande, muy bonito, y en el agua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Basement_Theater_Game_Room_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747360" y="457200"/>
            <a:ext cx="76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bfc5"/>
                </a:solidFill>
                <a:latin typeface="Broadway"/>
              </a:rPr>
              <a:t>El sotano es muy, muy fantastico! Tambien es muy grand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ig-bathro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609480" y="53352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oadway"/>
              </a:rPr>
              <a:t>El cuarto de  bano es MUY MUY MUY MUY grande. Es muy fresco y limpi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3:05:26Z</dcterms:created>
  <dc:creator>fosbergemi</dc:creator>
  <dc:description/>
  <dc:language>en-US</dc:language>
  <cp:lastModifiedBy>Mike Kane</cp:lastModifiedBy>
  <dcterms:modified xsi:type="dcterms:W3CDTF">2012-05-29T00:19:13Z</dcterms:modified>
  <cp:revision>12</cp:revision>
  <dc:subject/>
  <dc:title>Slide 1</dc:title>
</cp:coreProperties>
</file>